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CB4-8851-4558-9052-7E9E5622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678-5012-440D-B10D-2C835858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ACB-CA89-44A6-BB5C-304FA5CC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1F4-863D-4D72-A6B9-52EC5ED8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7C78-C701-4548-A56F-FE7E6641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1FC4-916E-4D2D-86D7-958F2AC6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C45B-57DB-4992-A7B4-E7FAB982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A63B-7F01-4882-B8B9-82BFE6F8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CE52-F488-47EA-B67B-38511485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10A1-BD93-4213-AE71-D64D15D8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CE35-4E21-48DB-919A-F8D691F0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70A-FD30-456E-8049-76A5C9FE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7AED-1EE8-49C1-8E35-E9A86F73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FD84-4486-46D3-9539-BD6E1ABF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A463-8C08-43CB-BDE9-61AB7738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1A4C-8DFD-4B75-A915-B26CD748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A765-A95F-4D91-B3A2-1A684D17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309-9D3E-4829-BFD6-7D9FD41A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2DE-683B-4469-A32C-A7624E29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C96-471F-48D8-9E0E-A6F7B844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773-D946-4660-B411-C69C96C9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AC9-D1F4-4DFE-AB64-8CEA5A8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F9B-2C68-4E2B-85FD-EF1D73F3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712-CBC7-4A99-A4CC-6821883A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8B41-214A-49E4-B26F-DC4C723D64A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6188-5F75-457B-86A1-0B0EBF6FF21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692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52e"/>
                </a:solidFill>
                <a:latin typeface="Verdana"/>
              </a:rPr>
              <a:t>Customer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2349360"/>
            <a:ext cx="561672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e Num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3141720"/>
            <a:ext cx="93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630864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itive! Design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0996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cad3218a_logo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108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476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52e"/>
                </a:solidFill>
                <a:latin typeface="Verdana"/>
              </a:rPr>
              <a:t>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413000"/>
            <a:ext cx="7921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152e"/>
                </a:solidFill>
                <a:latin typeface="Arial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erson, Pat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152e"/>
                </a:solidFill>
                <a:latin typeface="Arial"/>
              </a:rPr>
              <a:t>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 Longford Ave Burwood NSW 2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152e"/>
                </a:solidFill>
                <a:latin typeface="Arial"/>
              </a:rPr>
              <a:t>Tele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2) 9670 1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152e"/>
                </a:solidFill>
                <a:latin typeface="Arial"/>
              </a:rPr>
              <a:t>Serv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060640"/>
            <a:ext cx="7848360" cy="0"/>
          </a:xfrm>
          <a:prstGeom prst="line">
            <a:avLst/>
          </a:prstGeom>
          <a:ln w="9360">
            <a:solidFill>
              <a:srgbClr val="e31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924280"/>
            <a:ext cx="7848360" cy="0"/>
          </a:xfrm>
          <a:prstGeom prst="line">
            <a:avLst/>
          </a:prstGeom>
          <a:ln w="9360">
            <a:solidFill>
              <a:srgbClr val="e31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3716280"/>
            <a:ext cx="7848360" cy="0"/>
          </a:xfrm>
          <a:prstGeom prst="line">
            <a:avLst/>
          </a:prstGeom>
          <a:ln w="9360">
            <a:solidFill>
              <a:srgbClr val="e31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9360">
            <a:solidFill>
              <a:srgbClr val="e31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5084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7640" y="5084640"/>
            <a:ext cx="7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630864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itive! Design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0996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cad3218a_logo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762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6:18:25Z</dcterms:created>
  <dc:creator>Irwin</dc:creator>
  <dc:description/>
  <dc:language>en-US</dc:language>
  <cp:lastModifiedBy>OTEN</cp:lastModifiedBy>
  <dcterms:modified xsi:type="dcterms:W3CDTF">2005-04-05T05:16:07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85552954</vt:r8>
  </property>
  <property fmtid="{D5CDD505-2E9C-101B-9397-08002B2CF9AE}" pid="3" name="_AuthorEmail">
    <vt:lpwstr>nirwin@bigpond.com</vt:lpwstr>
  </property>
  <property fmtid="{D5CDD505-2E9C-101B-9397-08002B2CF9AE}" pid="4" name="_AuthorEmailDisplayName">
    <vt:lpwstr>Noelene</vt:lpwstr>
  </property>
  <property fmtid="{D5CDD505-2E9C-101B-9397-08002B2CF9AE}" pid="5" name="_EmailSubject">
    <vt:lpwstr>Create user doco skillset 2</vt:lpwstr>
  </property>
</Properties>
</file>